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FE57-0FB6-480F-9385-2C9F534C0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C2C4-FF9D-44F3-A928-2B3897B0C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FF13-7687-4CDA-AA68-F489C6B33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7129-04ED-4823-953F-07A139D01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48BD9-EFDF-4CAA-9E59-222D23983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360CD-A9D3-4EEB-AF66-67A2F1AF7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58F66-4DCC-48C9-898F-27DE87260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B8689-7B07-47A2-9159-195530067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DAED3-EC72-4D92-B749-88C7062CE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17BA9-6DF6-4F7B-AD54-9315BADFE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D4F1F-20A5-47AE-887B-18553335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09D5-4648-4BED-AAAE-AE6860719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54487-B9D1-46A4-B218-83E63D07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58F6F-77F5-4102-B3B4-F33BB518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50D43-5E07-47C2-95CF-394D185EF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8AED5-A9B3-498E-BA10-39F7109B5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5C46E-9470-4769-AFAD-DFFD5B50D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40E9-C547-4933-AAD6-242C94546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3BC5-C4E4-45E0-9B4A-315CA56E3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4FB8-936E-4696-AA52-B659EE157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33D1-C934-4A1E-89B3-62B7F61E7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011A-1DE8-4F46-9016-8A2FDCF9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CEA6-0D82-44A8-AC0C-427DF0CF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A4CB-BCA1-4BD1-A93E-30EEA891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2D948-C9E7-42E9-A2B7-0AE0EFF44949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F31EF-BF32-4FF4-B6F6-733C05200E5A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57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Травмы в походе - общие принципы оказания помощи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74320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Добрушина Ольга, 2006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971640" y="525600"/>
            <a:ext cx="6985080" cy="60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971640" y="620640"/>
            <a:ext cx="6913440" cy="59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3456000" cy="32958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859280" y="1557360"/>
            <a:ext cx="3529080" cy="34131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1116000" y="4292640"/>
            <a:ext cx="302436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40040" y="433080"/>
            <a:ext cx="59450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Алгоритм оказания помощи пострадавшему с травмой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29040" y="88272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Устранение повреждающего фактор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58960" y="154764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ознание сохранено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090880" y="221148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ульс на сонной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ние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30240" y="309708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ердечно-лёгочна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реаним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982600" y="30970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Проходимо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дыхательных  путе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438520" y="357336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становка артериальног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кровотеч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819760" y="4414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безболиван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849200" y="484668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оиск и обработка поврежден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02680" y="5400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1640" y="1312920"/>
            <a:ext cx="0" cy="333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2013120" y="2752560"/>
            <a:ext cx="51408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659040" y="2752560"/>
            <a:ext cx="51444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013120" y="3971880"/>
            <a:ext cx="34970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540480" y="41925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540480" y="474660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540480" y="530064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99040" y="1978200"/>
            <a:ext cx="1441440" cy="1661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540480" y="5854680"/>
            <a:ext cx="0" cy="220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532840" y="59547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Транспортиров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204160" y="17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67480" y="2568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44160" y="1770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12320" y="25686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0705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0131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276720" y="1978200"/>
            <a:ext cx="382320" cy="298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4232160" cy="44643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5148360" y="2924280"/>
            <a:ext cx="3568680" cy="35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0040" y="433080"/>
            <a:ext cx="59450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Алгоритм оказания помощи пострадавшему с травмой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29040" y="88272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Устранение повреждающего фактор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58960" y="154764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ознание сохранено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090880" y="221148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ульс на сонной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ние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30240" y="309708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ердечно-лёгочна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реаним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982600" y="30970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роходимо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тельных  путе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38520" y="357336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Остановка артериальног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кровотеч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19760" y="4414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безболиван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49200" y="484668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оиск и обработка поврежден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602680" y="5400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481640" y="1312920"/>
            <a:ext cx="0" cy="333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2013120" y="2752560"/>
            <a:ext cx="51408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59040" y="2752560"/>
            <a:ext cx="51444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013120" y="3971880"/>
            <a:ext cx="34970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540480" y="41925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40480" y="474660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540480" y="530064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099040" y="1978200"/>
            <a:ext cx="1441440" cy="1661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540480" y="5854680"/>
            <a:ext cx="0" cy="220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532840" y="59547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Транспортиров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204160" y="17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67480" y="2568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44160" y="1770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912320" y="25686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0705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131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276720" y="1978200"/>
            <a:ext cx="382320" cy="298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748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Кровотечени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100480" y="2060640"/>
            <a:ext cx="40435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Артериально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Венозно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Капиллярно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0" name=""/>
          <p:cNvSpPr/>
          <p:nvPr/>
        </p:nvSpPr>
        <p:spPr>
          <a:xfrm>
            <a:off x="539640" y="1989000"/>
            <a:ext cx="345600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Открыто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Закрыто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Внутренне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1907640" y="1484280"/>
            <a:ext cx="792360" cy="43200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867280" y="1413000"/>
            <a:ext cx="936720" cy="57600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3419640" y="1268280"/>
            <a:ext cx="2392200" cy="47466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1723680" y="458640"/>
            <a:ext cx="625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Пальцевое прижатие артери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5832360" cy="12304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5580000" y="3213000"/>
            <a:ext cx="2303640" cy="23036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2661840" y="189000"/>
            <a:ext cx="369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Наложение жгут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Основные правила наложения жгута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8218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е накладывать на голую кожу, на рану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е накладывается: в середине плеча, в нижней трети голеностоп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ила - минимальная достаточная для остановки кровотечения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Через полчаса проверить остановку кровотечения , если не остановилось - повторить наложени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е закрывать жгут одеждой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Записк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емедленно доставить в лечебное учреждени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Каждые 2 часа летом и 0,5ч - зимой проводить ослабление жгут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0040" y="433080"/>
            <a:ext cx="59450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Алгоритм оказания помощи пострадавшему с травмой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29040" y="88272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Устранение повреждающего фактор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58960" y="154764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ознание сохранено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90880" y="221148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ульс на сонной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ние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30240" y="309708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ердечно-лёгочна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реаним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82600" y="30970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роходимо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тельных  путе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38520" y="357336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становка артериальног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кровотеч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819760" y="4414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безболиван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49200" y="484668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оиск и обработка поврежден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602680" y="5400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81640" y="1312920"/>
            <a:ext cx="0" cy="333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2013120" y="2752560"/>
            <a:ext cx="51408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59040" y="2752560"/>
            <a:ext cx="51444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13120" y="3971880"/>
            <a:ext cx="34970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40480" y="41925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540480" y="474660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40480" y="530064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99040" y="1978200"/>
            <a:ext cx="1441440" cy="1661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540480" y="5854680"/>
            <a:ext cx="0" cy="220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32840" y="59547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Транспортиров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04160" y="17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67480" y="2568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4160" y="1770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12320" y="25686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0705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0131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3276720" y="1978200"/>
            <a:ext cx="382320" cy="298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2935080" cy="43815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4140360" y="2637000"/>
            <a:ext cx="4768560" cy="34336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3780000" y="2320920"/>
            <a:ext cx="5832360" cy="4032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40040" y="433080"/>
            <a:ext cx="59450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Алгоритм оказания помощи пострадавшему с травмой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029040" y="88272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Устранение повреждающего фактор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558960" y="154764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ознание сохранено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090880" y="221148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ульс на сонной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ние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30240" y="309708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ердечно-лёгочна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реаним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982600" y="30970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роходимо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тельных  путе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438520" y="357336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становка артериальног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кровотеч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819760" y="4414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Обезболиван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849200" y="484668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оиск и обработка поврежден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602680" y="5400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81640" y="1312920"/>
            <a:ext cx="0" cy="333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2013120" y="2752560"/>
            <a:ext cx="51408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659040" y="2752560"/>
            <a:ext cx="51444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013120" y="3971880"/>
            <a:ext cx="34970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540480" y="41925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540480" y="474660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540480" y="530064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099040" y="1978200"/>
            <a:ext cx="1441440" cy="1661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540480" y="5854680"/>
            <a:ext cx="0" cy="220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532840" y="59547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Транспортиров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04160" y="17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867480" y="2568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044160" y="1770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912320" y="25686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0705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0131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3276720" y="1978200"/>
            <a:ext cx="382320" cy="298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2952720" cy="295308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5148360" y="549360"/>
            <a:ext cx="2760480" cy="284796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2484360" y="2781360"/>
            <a:ext cx="3816360" cy="381636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4"/>
          <a:stretch/>
        </p:blipFill>
        <p:spPr>
          <a:xfrm>
            <a:off x="7093080" y="4724280"/>
            <a:ext cx="172872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40040" y="433080"/>
            <a:ext cx="59450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Алгоритм оказания помощи пострадавшему с травмой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029040" y="88272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Устранение повреждающего фактор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558960" y="154764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ознание сохранено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090880" y="221148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ульс на сонной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ние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930240" y="309708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ердечно-лёгочна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реаним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982600" y="30970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роходимо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тельных  путе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438520" y="357336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становка артериальног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кровотеч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819760" y="4414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безболиван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849200" y="484668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Поиск и обработка поврежден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02680" y="5400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81640" y="1312920"/>
            <a:ext cx="0" cy="333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2013120" y="2752560"/>
            <a:ext cx="51408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659040" y="2752560"/>
            <a:ext cx="51444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013120" y="3971880"/>
            <a:ext cx="34970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540480" y="41925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540480" y="474660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540480" y="530064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099040" y="1978200"/>
            <a:ext cx="1441440" cy="1661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40480" y="5854680"/>
            <a:ext cx="0" cy="220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532840" y="59547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Транспортиров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204160" y="17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67480" y="2568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44160" y="1770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912320" y="25686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0705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0131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3276720" y="1978200"/>
            <a:ext cx="382320" cy="298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684360" y="189000"/>
            <a:ext cx="2490480" cy="30240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4074480" y="811080"/>
            <a:ext cx="4915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ерекись водород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Гибидил (хлоргексидина биглюконат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Мирамистин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Фурациллин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и т.д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307040" y="333360"/>
            <a:ext cx="35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“</a:t>
            </a: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Мягкие</a:t>
            </a: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”</a:t>
            </a: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 антисептик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5219640" y="4292640"/>
            <a:ext cx="2997360" cy="23875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243800" y="3933720"/>
            <a:ext cx="36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“</a:t>
            </a: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Жесткие</a:t>
            </a: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”</a:t>
            </a: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 антисептик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539720" y="4581360"/>
            <a:ext cx="159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Спирт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Йод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«Зелёнка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3924360" y="5373720"/>
            <a:ext cx="148896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940040" y="433080"/>
            <a:ext cx="59450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Алгоритм оказания помощи пострадавшему с травмой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029040" y="88272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Устранение повреждающего фактор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558960" y="154764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ознание сохранено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090880" y="221148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ульс на сонной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ние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930240" y="309708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ердечно-лёгочна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реаним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82600" y="30970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роходимо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тельных  путе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438520" y="357336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становка артериальног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кровотеч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819760" y="4414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безболиван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849200" y="484668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оиск и обработка поврежден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602680" y="5400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481640" y="1312920"/>
            <a:ext cx="0" cy="333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2013120" y="2752560"/>
            <a:ext cx="51408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659040" y="2752560"/>
            <a:ext cx="51444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013120" y="3971880"/>
            <a:ext cx="34970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40480" y="41925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540480" y="474660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540480" y="530064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099040" y="1978200"/>
            <a:ext cx="1441440" cy="1661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540480" y="5854680"/>
            <a:ext cx="0" cy="220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532840" y="59547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Транспортиров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4160" y="17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867480" y="2568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044160" y="1770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912320" y="25686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0705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0131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3276720" y="1978200"/>
            <a:ext cx="382320" cy="298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611280" y="1155960"/>
            <a:ext cx="763272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Не накладывать на голую кожу (нужны мягкие прокладки), на рану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Оставить травмированное место в том положении, в котором его нашли его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Шина должна перекрывать как минимум два соседних с переломом сустав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Лучше накладывать по бокам конечности, менее удобно – по передней или задней сторонам конечност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Качественная фиксац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Шина не должна нарушать кровообращени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16440" y="473040"/>
            <a:ext cx="594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c85e"/>
                </a:solidFill>
                <a:latin typeface="Verdana"/>
              </a:rPr>
              <a:t>Основные правила наложения шин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1042920" y="4508640"/>
            <a:ext cx="3944880" cy="195084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4211640" y="333360"/>
            <a:ext cx="4537080" cy="39765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853560" y="620640"/>
            <a:ext cx="19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Верхни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конечност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1619280" y="2276640"/>
            <a:ext cx="5759280" cy="274788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2627280" y="69228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Перелом ключиц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3168720" cy="309888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808200" y="476280"/>
            <a:ext cx="323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Нижние конечност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4067280" y="1844640"/>
            <a:ext cx="1712880" cy="396396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3"/>
          <a:stretch/>
        </p:blipFill>
        <p:spPr>
          <a:xfrm>
            <a:off x="6516720" y="2997360"/>
            <a:ext cx="21956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403280" y="404640"/>
            <a:ext cx="6408720" cy="611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539640" y="2781360"/>
            <a:ext cx="8172720" cy="196848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3833280" y="76500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Verdana"/>
              </a:rPr>
              <a:t>Кости таз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8675640" cy="173988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634200" y="62064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Verdana"/>
              </a:rPr>
              <a:t>Позвоночник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4427640" y="4149720"/>
            <a:ext cx="177624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940040" y="433080"/>
            <a:ext cx="59450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Алгоритм оказания помощи пострадавшему с травмой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029040" y="88272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Устранение повреждающего фактор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558960" y="154764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ознание сохранено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090880" y="221148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ульс на сонной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ние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930240" y="309708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ердечно-лёгочна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реаним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982600" y="30970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роходимо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тельных  путе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438520" y="357336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становка артериальног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кровотеч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819760" y="4414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безболиван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49200" y="484668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оиск и обработка поврежден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602680" y="5400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481640" y="1312920"/>
            <a:ext cx="0" cy="333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2013120" y="2752560"/>
            <a:ext cx="51408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659040" y="2752560"/>
            <a:ext cx="51444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013120" y="3971880"/>
            <a:ext cx="34970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540480" y="41925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540480" y="474660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540480" y="530064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099040" y="1978200"/>
            <a:ext cx="1441440" cy="1661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540480" y="5854680"/>
            <a:ext cx="0" cy="220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532840" y="59547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Транспортиров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204160" y="17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867480" y="2568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044160" y="1770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912320" y="25686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0705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0131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3276720" y="1978200"/>
            <a:ext cx="382320" cy="298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53964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Пешком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На себе (один человек, несколько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На носилках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мягки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полужестки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жестки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9" name=""/>
          <p:cNvSpPr/>
          <p:nvPr/>
        </p:nvSpPr>
        <p:spPr>
          <a:xfrm>
            <a:off x="2247840" y="476280"/>
            <a:ext cx="449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c85e"/>
                </a:solidFill>
                <a:latin typeface="Verdana"/>
              </a:rPr>
              <a:t>Способы транспортировк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55640" y="22766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Частные случаи травм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1403280" y="2276640"/>
            <a:ext cx="6120000" cy="325260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Перелом позвоночника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Черепно-мозговая травм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1403280" y="1989000"/>
            <a:ext cx="2826000" cy="315936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5148360" y="2205000"/>
            <a:ext cx="2833560" cy="27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Травма грудной клетк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2771640" y="1844640"/>
            <a:ext cx="359748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Аспирация инородного тел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539640" y="1797120"/>
            <a:ext cx="828036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«Острый живот»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Опасность – кровотечение, перитонит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Помощь: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холод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голод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и покой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Возможно применение антибиотиков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Обезболивание не показано, но..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403280" y="428760"/>
            <a:ext cx="6408720" cy="61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Носовое кровотечени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2700360" y="1989000"/>
            <a:ext cx="356724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Инородное тело в глазу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1714320" cy="207648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3059280" y="1700280"/>
            <a:ext cx="2238120" cy="178128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3"/>
          <a:stretch/>
        </p:blipFill>
        <p:spPr>
          <a:xfrm>
            <a:off x="6012000" y="1700280"/>
            <a:ext cx="2238120" cy="192384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4"/>
          <a:stretch/>
        </p:blipFill>
        <p:spPr>
          <a:xfrm>
            <a:off x="1835280" y="4221000"/>
            <a:ext cx="2238120" cy="185760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5"/>
          <a:stretch/>
        </p:blipFill>
        <p:spPr>
          <a:xfrm>
            <a:off x="5508720" y="4221000"/>
            <a:ext cx="171432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Ушибы и растяжен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2232000" cy="144144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6948360" y="134136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3"/>
          <a:stretch/>
        </p:blipFill>
        <p:spPr>
          <a:xfrm>
            <a:off x="5076720" y="1700280"/>
            <a:ext cx="1524240" cy="152388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590760" y="119700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1. Холод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047560" y="1268280"/>
            <a:ext cx="10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2. НПВС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30920" y="371628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3. 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4"/>
          <a:stretch/>
        </p:blipFill>
        <p:spPr>
          <a:xfrm>
            <a:off x="5940360" y="4653000"/>
            <a:ext cx="2592360" cy="154296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5924160" y="3860640"/>
            <a:ext cx="225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4. Разогревающ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- через 1-3 суток!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5"/>
          <a:stretch/>
        </p:blipFill>
        <p:spPr>
          <a:xfrm>
            <a:off x="539640" y="4292640"/>
            <a:ext cx="1905120" cy="133344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6"/>
          <a:stretch/>
        </p:blipFill>
        <p:spPr>
          <a:xfrm>
            <a:off x="2916360" y="3645000"/>
            <a:ext cx="1728720" cy="146052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7"/>
          <a:stretch/>
        </p:blipFill>
        <p:spPr>
          <a:xfrm>
            <a:off x="2195640" y="5013360"/>
            <a:ext cx="165564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Порез пальц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1403280" y="1989000"/>
            <a:ext cx="2325600" cy="154152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5724360" y="1916280"/>
            <a:ext cx="2286000" cy="163800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3"/>
          <a:stretch/>
        </p:blipFill>
        <p:spPr>
          <a:xfrm>
            <a:off x="3492360" y="4508640"/>
            <a:ext cx="23814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Потёртости и мозол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2449800" cy="130644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437040" y="1211400"/>
            <a:ext cx="438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1. Внимание к обуви, носкам и ногам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53880" y="3371760"/>
            <a:ext cx="516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2. Своевременное использование пластыр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02640" y="5157720"/>
            <a:ext cx="479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3. В походе практически не лечатся, но..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стерильная повяз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ранозаживляюще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протыкать или нет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6948360" y="1413000"/>
            <a:ext cx="1390680" cy="190476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3"/>
          <a:stretch/>
        </p:blipFill>
        <p:spPr>
          <a:xfrm>
            <a:off x="4572000" y="1628640"/>
            <a:ext cx="1376280" cy="150516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4"/>
          <a:stretch/>
        </p:blipFill>
        <p:spPr>
          <a:xfrm>
            <a:off x="1116000" y="3860640"/>
            <a:ext cx="2448000" cy="118296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5"/>
          <a:stretch/>
        </p:blipFill>
        <p:spPr>
          <a:xfrm>
            <a:off x="4572000" y="3789360"/>
            <a:ext cx="1368360" cy="103500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6"/>
          <a:stretch/>
        </p:blipFill>
        <p:spPr>
          <a:xfrm>
            <a:off x="6659640" y="5445000"/>
            <a:ext cx="736560" cy="122400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7"/>
          <a:stretch/>
        </p:blipFill>
        <p:spPr>
          <a:xfrm>
            <a:off x="4932360" y="5589720"/>
            <a:ext cx="107964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Реализация принципа «Не навреди!»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Не передвигайте пострадавшего с серьезными травмам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Не давайте пищу и воду, если не уверены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Не делайте действий, перекрывающих дыхательные пути (не кладите плашмя, не подкладывайте под голову подушку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0040" y="433080"/>
            <a:ext cx="59450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Алгоритм оказания помощи пострадавшему с травмой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29040" y="88272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Устранение повреждающего фактор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558960" y="154764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ознание сохранено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090880" y="221148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ульс на сонной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ние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30240" y="309708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Сердечно-лёгочна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реаним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982600" y="30970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роходимо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тельных  путе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438520" y="357336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становка артериальног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кровотеч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819760" y="4414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безболиван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849200" y="484668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оиск и обработка поврежден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602680" y="5400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81640" y="1312920"/>
            <a:ext cx="0" cy="333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013120" y="2752560"/>
            <a:ext cx="51408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59040" y="2752560"/>
            <a:ext cx="51444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013120" y="3971880"/>
            <a:ext cx="34970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540480" y="41925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40480" y="474660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540480" y="530064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099040" y="1978200"/>
            <a:ext cx="1441440" cy="1661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540480" y="5854680"/>
            <a:ext cx="0" cy="220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32840" y="59547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Транспортиров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204160" y="17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67480" y="2568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44160" y="1770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12320" y="25686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0705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0131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276720" y="1978200"/>
            <a:ext cx="382320" cy="298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Сердечно-лёгочная реанимация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8218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Обеспечение проходимости дыхательных путей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2 вдоха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прекардиальный удар ?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вдох:надавливание на грудную клетку = 2:15 (один реаниматор) или 1:5 (два реаниматора)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контроль эффективности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268360" y="981000"/>
            <a:ext cx="547236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692360" y="333360"/>
            <a:ext cx="5769000" cy="60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419640" y="2421000"/>
            <a:ext cx="313668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5T12:57:39Z</dcterms:created>
  <dc:creator>Добрушина</dc:creator>
  <dc:description/>
  <dc:language>en-US</dc:language>
  <cp:lastModifiedBy>Добрушина</cp:lastModifiedBy>
  <dcterms:modified xsi:type="dcterms:W3CDTF">2006-06-05T23:20:36Z</dcterms:modified>
  <cp:revision>36</cp:revision>
  <dc:subject/>
  <dc:title>Слайд 1</dc:title>
</cp:coreProperties>
</file>